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5CAB77D-C994-4C69-B6AF-B930E79C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wa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ets 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977-94CC-42C2-815B-B99C2214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F76-B116-44EF-A4E7-CAC61DE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3AF-E417-4A72-8BA5-D57DBD3D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783-D009-46B6-B095-6416D5A2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851-D0F2-4E53-858A-29D3EAAA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A830-8810-4B48-B273-1195B993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908-D732-432B-8FD2-771CFBBF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27DF-8698-4AF2-B8CA-54AE929E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62CE-80D1-466A-BC53-A1065193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32AA-3997-45B1-95C7-17D81C7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46B-06A3-4B83-8870-4D4A9D5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748-3C77-4B79-8A95-AAA4B323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589F-AA37-42D2-BD99-D4BD6DC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55FC-F458-4E15-B75F-61465EF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5807-3670-4AAA-8135-F53CCD4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25E5-392E-4632-87AE-7322DCE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FB67-098F-497B-92CD-0DE3A7A2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B98-F128-4DB0-BF1A-886CE11D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32E-8E78-47F0-8467-8B51D441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60E-B64C-496B-8746-8F031DD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D59-A2C9-488F-933C-5C211DC0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3C1-6CFE-4F36-BE18-10F38A0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C1D-B1BA-4972-A376-A95546F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4D6-709D-4418-8234-29B58E1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868B-9503-43EE-B9D1-174B5BF7A25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68B-5153-468A-8FF5-86AA216FC9F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B7BC-6562-4096-B803-DA1DCAF5C8E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400"/>
            </a:br>
            <a:r>
              <a:rPr b="1" i="1" lang="en-US" sz="4400" spc="-1" strike="noStrike">
                <a:solidFill>
                  <a:srgbClr val="0d469b"/>
                </a:solidFill>
                <a:latin typeface="Arial"/>
              </a:rPr>
              <a:t>Day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760" y="1249200"/>
            <a:ext cx="836604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Develop an Understanding of how the Big Ideas from Patterning to Algebraic Reasoning connect to Line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Develop an Understanding of the Big Ideas that are unique to Linear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Provide Differentiated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Use Literacy 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Effective Use of Technology and Manipul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Build a Math-Talk Learning Community                               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199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99b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rom Patterning to Algebraic Reaso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(e.g., predicting) generalized mathematical relationships and change using words and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mathematical relationships helps us see that there are classes of relationships and provides insight into each member of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, but not always,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Big Ideas for Linear Func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functions are mathematical descriptions of relationships that change at a steady r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pieces of information (e.g. 2 points, slope and a point) are needed to uniquely define a linear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92320" y="1724040"/>
            <a:ext cx="6610320" cy="5133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49200" y="9237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  <a:ea typeface="Arial"/>
              </a:rPr>
              <a:t>Which Link to the Big Ideas for Linear Rel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1066800">
            <a:off x="712440" y="3920760"/>
            <a:ext cx="1936800" cy="2541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398600"/>
            <a:ext cx="51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question, identify the      Big Idea that it is associated with,     and post on chart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89520" y="130968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6560" y="2798640"/>
            <a:ext cx="41263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the highligh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6200" y="884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How do the overall expectations link to the Big Ideas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886600">
            <a:off x="4859280" y="2519280"/>
            <a:ext cx="206856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995400">
            <a:off x="6575040" y="3773160"/>
            <a:ext cx="1851120" cy="24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255420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1: Identify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4200" y="3711600"/>
            <a:ext cx="377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2:  Select or Creat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s on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r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00:50:50Z</dcterms:modified>
  <cp:revision>112</cp:revision>
  <dc:subject/>
  <dc:title>Math GAINS 2008-09</dc:title>
</cp:coreProperties>
</file>